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C90-BF37-4A89-A527-FDA00169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F59-669C-4F59-8220-B6536179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D2D-F4DB-4914-A994-3466AAE0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A33-D14F-425E-81B2-316B9F99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0077-628E-4B5E-B85F-DD987221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B7E7-62D9-48E3-AA0E-97BDF97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7CC2-6C07-4732-B823-02D5AD1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629F-B377-4061-9FCF-C8A63B18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706F-2DD1-4743-87A6-04F0C9D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274F-DDDA-43D6-8AD5-015C698A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7FB0-ED8B-4D27-8B5B-8A08508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8DE-AE7D-4EBD-A9E8-2C3787A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615-85F3-4F7F-8701-B77A9C6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7428-6D04-4724-824C-1DD16EC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0755-296A-43DE-8193-28F941F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BA09-32CD-4191-BF37-E1EE0161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9878-FF4C-426B-B623-4DE50D1B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E2D2-FCC2-4C1E-BE53-435175AC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9DB7-B527-4215-BBBF-A4AF1D1D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CB71-8936-4E87-AAB1-742BD4EA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6754-4477-4176-8A01-CAD9724A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006C-C9FA-4D05-93D1-44E933A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4F9-D89A-4CEA-B87B-03150723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24FA-5E34-49C1-B7CB-C9F0A6B9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2713-E2E1-477F-BB84-A8AD119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2CF6-3241-4C8A-B5E7-436EB8E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975B-E077-4886-8153-45B77C1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6A56-7321-4ECF-AE2D-F2885FA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6EA9-B9C9-475E-B847-F30D8C1A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963D-B834-4DF4-B9EC-9F1A3F94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7058-DE77-4665-AF6B-23508230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4A16-DFF3-47D4-904B-FFAF496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8EAA-4363-4A22-B3F5-89AC48B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2EA-6882-4752-B733-10F0C33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9F99-D7D8-468C-9F58-5FD7C9E9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AF74-87C9-47BA-A4BE-F4F2CED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7B50-FB79-4386-89D6-D1543774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FF6D-70FF-458E-9854-3B51DA8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A50C-8497-4C0B-B478-6A45E95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1B13-6116-4A4A-8978-182DBB89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9ACD-EC9F-4A6E-8CD5-708296C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03C1-4B19-4F21-8992-AFBFFAC6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EC8A-8A60-4AF2-8193-C47310BD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1F6A-0A49-4605-9F7D-F6C6F9D6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A96-9E3E-497D-8303-73B98D3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0E06-BD07-4E13-A3D0-AA1C694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B8CB-1EFE-4503-BD4C-71F7540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CAA2-AA4E-42C1-832E-D2E6D9E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30CE-756E-4859-80D2-18F2BC0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2461B-17C3-476E-A42D-94EAAA74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42B3-D94C-4971-9FC7-AB0B1A3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0F75-473A-4B17-AEF7-C4186C4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0EAD-1561-42E5-B40E-0DE0B50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D13D-7924-42C3-AED0-C3867F1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94292-492D-47B5-9465-09F79B15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0ED-D88D-4873-B9C8-48474D95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0A1FB-2839-4354-B8ED-50C2359D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827C-C93B-4D6A-B773-118FCBCF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F8EA-92C7-400E-A82B-950F060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56E1-9195-491E-AA55-AA1408D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5DC17-934D-48D7-A95D-7828F6F2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573B-BC19-4089-938D-79DA11ED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A237-E247-4A34-8CC2-29EA8EF1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4E95-EC58-4B5E-940E-91A66E15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D942-CD61-43AA-B8F3-DE00B6E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B945-1BD7-4444-9770-27FFD92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C05-2B14-4325-B042-0123A8F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0256-45EB-4188-A267-51899ADF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FF12-576D-476E-BC84-CADC4253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77B7-1100-4A73-8775-CF1DC0F5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069-28D4-4449-A036-9AFA154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272-D51A-4493-B375-DE750EFD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E059-1A57-4F05-9284-8282B24A92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0FF-A8B0-4FD4-A70A-F37DB0001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E72-D8E7-4A3B-A26C-A2BACA938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993-9693-4F12-83F1-054CB377B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3F5A-AE1D-45ED-9C4E-FA484C9C4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F1A6-ACCB-4E6A-AFE0-5067AB02C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chnorati.com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meantforwork.mo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Wednesday, April 2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0932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Q’s ‘bout w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Blog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hort for “web log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site – easy to use, like writing an emai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ntries, or “posts” are made in journal style; chronological ord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commen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work / School websit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student blog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rofessional Reflective Blog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31440" indent="-24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acher 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31440" indent="-24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rofessional Reflective Journa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fferent levels of participation (Post, comment, read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, conversatio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Blog Resources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g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Edublog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lassblogmeist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s in the Classroom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heck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How can it be used in the classroom to learn 21st Century Literacy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gging – the basics of where and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room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community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al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web-based blog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rat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43440" y="3138480"/>
            <a:ext cx="12571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tique Olive"/>
              </a:rPr>
              <a:t>Blog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353760" y="3049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Blog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1143000"/>
            <a:ext cx="67057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Used in K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le 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s (individual and coll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pts for writing / story st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case exemplar work (writing and pi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2209320" y="121932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chool Community Blog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226224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mework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7abcd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8hij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.nbed.nb.c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leohayeshigh.nbed.nb.c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56160" y="304920"/>
            <a:ext cx="51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1318"/>
                </a:solidFill>
                <a:latin typeface="Arial"/>
              </a:rPr>
              <a:t>School Community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rofessional Blog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dub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vid Warlick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Utech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rl Fis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Whipp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ofessional 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rati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g “Search Eng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searches of blogs by content and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a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keywords added by author to assist search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chnorati.com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Technor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4267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textbooks still relev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you see a classroom without tex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would replace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ging Basic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per due March 29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3 (Pages 45-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ac A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9196" t="0" r="9196" b="4981"/>
          <a:stretch/>
        </p:blipFill>
        <p:spPr>
          <a:xfrm>
            <a:off x="1981080" y="1905120"/>
            <a:ext cx="5410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Embraced by Millenial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5880" y="2895480"/>
            <a:ext cx="2819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ySpa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icz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lickr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YouTub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-570600" y="1295280"/>
            <a:ext cx="88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y have stories to t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4-03T12:21:04Z</dcterms:modified>
  <cp:revision>47</cp:revision>
  <dc:subject/>
  <dc:title>Welcome to  ED3862</dc:title>
</cp:coreProperties>
</file>